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A80F-1D5F-4493-9428-C2E147DB0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BD84-589B-448C-997F-2C716FBDA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E68F-5DBC-4F6E-B697-136DC41AE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AE88-5B53-441D-A1BB-60BE030E6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D802-8A65-4806-992D-86089B5D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70C02-E851-4D9D-88C3-D265F5BB1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6AB58-CF39-4B89-993C-FCADE6673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5ACD-CA0A-4406-8376-865D5826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7018-46B7-4D10-8734-8CBC0EBEF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70D54-F882-484F-A0D6-4A4239FDD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432BD-5222-4492-8B97-69539A8CB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C341-D687-4618-B207-6D2968059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8F263-14A7-4309-8150-15280B4E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A30DA-ED9E-4BD1-B881-B9E0595D8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D60-9CC8-4505-B7B8-0A8C9EFF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D0EB-3D07-4E31-BB4B-CA6E94666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F0FD-2131-4C77-BD50-562A42D17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E99C1-EF9D-4017-B9D4-526A9CE7C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559CD-ED55-4DD5-AADC-C2DE885F8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CF91-1751-436F-BA30-9ACC3EE93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6AAF-DF72-4844-B333-70E94AC7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7B4A4-6865-4DD5-9007-BB6EA583E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54E6-CD7C-4D3D-8344-0B79B12A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7A56-9A6E-4997-B52D-E2FE48EB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284ABA-4C79-481B-B503-E19DA27FC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97AEE-3123-4903-BE1C-10DFC4AB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F43C1-AE81-4D1E-A0B5-C0AC9AC1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BEA83-05A3-49BC-AF38-7DA9CDB3C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93084-5E92-4589-AFF0-3DD3ACAF8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67865-939B-438F-B898-FE78A7DEC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661473-B350-4C96-8F0E-3109300B7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C96E6-2200-4F10-96EE-4035BB7F1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3758D8-B314-4033-92C6-C7B0E354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1776-A7B0-42EB-BA00-C18DF6F0F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EB2E7-3F3B-4AE8-A2A7-D16A4C21B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A086E-B178-4E53-9985-818D2A18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7C956-914E-4E6E-A003-1D8C80A1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E4C053-9E02-4A6D-8AB5-9F18322C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518C8-0E35-4EA1-A02F-4583DD65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04445-3432-44E7-8CB7-5A3380FC6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DC6CC-D05D-45F0-9987-71A03966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5294-4C4A-4C56-9039-A90DE3F7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4D3D-7E61-4E63-A0DC-AA6C2DDCB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9B9AB-BD0B-482E-8EEF-ACA2DB32D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DE0B-1601-4E82-8198-80A6074A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156182-34AF-48C6-B0BC-F0C50381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0E218-9389-46A4-8BB4-7BCD999B4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46F2D-2C13-43AB-B71B-00E94E64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BCE86B-114C-439E-8125-59565BEF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77AF-90B5-4B09-A35E-86F0738D1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F2967-BF3B-4DCB-80BD-C6FFA7F58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2A2CF-67DD-4A0F-8FF3-E2E2471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48E1C-0C78-4B19-9CA5-0798D86A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55AB9-64B3-465B-A891-366FFF28D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C84F8B-F33F-4C45-A282-934B569F2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4571640"/>
            <a:ext cx="678168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BF79-FFCA-4A67-88D9-1163C5DC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1236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863320" y="68544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7617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1236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863320" y="2715480"/>
            <a:ext cx="24289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EAD990-D422-4FFE-A368-C4C671FA1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0E91-C352-4D9C-857F-66B28C21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27440" y="271548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719D-FF3F-42C4-A6BA-0461A0FD5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176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27440" y="685440"/>
            <a:ext cx="3681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1760" y="2715480"/>
            <a:ext cx="7543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8AB4-D3C2-4F6F-A2E1-95FF1D0C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104C-B133-4A84-9D80-50F5336AB544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58956-9D93-457D-B8CD-0BB890C23E7F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9"/>
          <p:cNvSpPr/>
          <p:nvPr/>
        </p:nvSpPr>
        <p:spPr>
          <a:xfrm>
            <a:off x="777960" y="0"/>
            <a:ext cx="7543800" cy="304812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BAC40-10F5-461D-9FCA-C71293350CC3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7588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4645080" y="1249200"/>
            <a:ext cx="3657600" cy="1800"/>
          </a:xfrm>
          <a:prstGeom prst="line">
            <a:avLst/>
          </a:prstGeom>
          <a:ln w="15840">
            <a:solidFill>
              <a:srgbClr val="ad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52213-1695-4ADC-9E41-ED7750D63558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777960" y="0"/>
            <a:ext cx="7543800" cy="38088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777960" y="6172200"/>
            <a:ext cx="7543800" cy="27000"/>
          </a:xfrm>
          <a:prstGeom prst="rect">
            <a:avLst/>
          </a:prstGeom>
          <a:solidFill>
            <a:srgbClr val="ad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traight Connector 9"/>
          <p:cNvSpPr/>
          <p:nvPr/>
        </p:nvSpPr>
        <p:spPr>
          <a:xfrm flipH="1">
            <a:off x="3580920" y="611280"/>
            <a:ext cx="1800" cy="3809880"/>
          </a:xfrm>
          <a:prstGeom prst="line">
            <a:avLst/>
          </a:prstGeom>
          <a:ln w="15840">
            <a:solidFill>
              <a:srgbClr val="9898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Click to edit the title text format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3" marL="11430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6248520" y="620820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45454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5454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762120" y="6208200"/>
            <a:ext cx="48736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620120" y="5688000"/>
            <a:ext cx="761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62626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913B-67DA-4AC7-AB1C-9105C0229110}" type="slidenum">
              <a:rPr b="0" lang="en-US" sz="2400" spc="-1" strike="noStrike">
                <a:solidFill>
                  <a:srgbClr val="262626"/>
                </a:solidFill>
                <a:latin typeface="Impac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61760" y="320004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Impact"/>
              </a:rPr>
              <a:t>Palabras afirmativas y Negativas</a:t>
            </a:r>
            <a:endParaRPr b="0" lang="en-US" sz="80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762120" y="472428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03030"/>
                </a:solidFill>
                <a:latin typeface="Times New Roman"/>
              </a:rPr>
              <a:t>Sra. Prine</a:t>
            </a: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03030"/>
              </a:solidFill>
              <a:latin typeface="Times New Roman"/>
            </a:endParaRPr>
          </a:p>
        </p:txBody>
      </p:sp>
      <p:pic>
        <p:nvPicPr>
          <p:cNvPr id="220" name="j0211923.wav" descr=""/>
          <p:cNvPicPr/>
          <p:nvPr/>
        </p:nvPicPr>
        <p:blipFill>
          <a:blip r:embed="rId1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1" name="j0211939.wav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2" name="j0211940.wav" descr=""/>
          <p:cNvPicPr/>
          <p:nvPr/>
        </p:nvPicPr>
        <p:blipFill>
          <a:blip r:embed="rId3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745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4745" fill="hold"/>
                                        <p:tgtEl>
                                          <p:spTgt spid="2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13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4745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Práctica…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 don’t like tea either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No me gusta el té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tampoco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 never want any of those cake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Nunca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quiero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 ninguno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de estos pasteles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No one knows how to set a table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Nadie 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sabe poner la mesa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5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What are affirmative and negative words?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ffirmative and negative words help us talk about an indefinite or negative situation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The students went to some restauran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They also add emphasis to the situation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 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I never want any of those banana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Affirmative Word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o= Something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uien= Someone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Algún/alguno(a)= Some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Siempre= Always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ctr">
              <a:spcBef>
                <a:spcPts val="10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03030"/>
                </a:solidFill>
                <a:latin typeface="Times New Roman"/>
              </a:rPr>
              <a:t>También= Also</a:t>
            </a:r>
            <a:endParaRPr b="0" lang="en-US" sz="4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How to use affirmative words…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Here are a couple examples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 waiter might ask his tab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¿Quiere algo de tomar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Would you like something to drink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You might respond: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No quiero nada en este momento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I don’t want anything in this moment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3" dur="500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6" dur="500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¡OJO!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When alguno(a) and ninguno(a) must match the gender of the noun they replace or modify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 and ninguno have different forms when used before masculine singular noun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lgún         Ninguno 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ningú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as chicas quieren algún postre, pero Carlos no quiere ningún postre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3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Práctica…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fter eating, I always want something swee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Después de comer,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siempre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quiero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o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dulce</a:t>
            </a:r>
            <a:r>
              <a:rPr b="0" lang="en-US" sz="2200" spc="-1" strike="noStrike">
                <a:solidFill>
                  <a:srgbClr val="30303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Laura goes to some restaurant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Laura va a 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ún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restaurante.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Does someone want coffee?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1" marL="593640" indent="-272880">
              <a:spcBef>
                <a:spcPts val="550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¿ </a:t>
            </a:r>
            <a:r>
              <a:rPr b="1" i="1" lang="en-US" sz="2200" spc="-1" strike="noStrike">
                <a:solidFill>
                  <a:srgbClr val="303030"/>
                </a:solidFill>
                <a:latin typeface="Times New Roman"/>
              </a:rPr>
              <a:t>Alguien</a:t>
            </a:r>
            <a:r>
              <a:rPr b="0" i="1" lang="en-US" sz="2200" spc="-1" strike="noStrike">
                <a:solidFill>
                  <a:srgbClr val="303030"/>
                </a:solidFill>
                <a:latin typeface="Times New Roman"/>
              </a:rPr>
              <a:t> quiere café?</a:t>
            </a:r>
            <a:endParaRPr b="0" lang="en-US" sz="2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3" dur="20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88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Negative Words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Here is a list of negative words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ada= Nothing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adie= No one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ingún/Ninguno(a)= None, not any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Nunca= Never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 algn="just">
              <a:spcBef>
                <a:spcPts val="7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Times New Roman"/>
              </a:rPr>
              <a:t>Tampoco= Neither, either</a:t>
            </a:r>
            <a:endParaRPr b="0" lang="en-US" sz="32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262626"/>
                </a:solidFill>
                <a:latin typeface="Impact"/>
              </a:rPr>
              <a:t>How to use negative words…</a:t>
            </a:r>
            <a:endParaRPr b="0" lang="en-US" sz="49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If a verb is preceded by “no,” words that follow MUST be negative (if expressing a negative situation)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Remember, a double negative is CORRECT in Spanish and is required when “no” precedes the verb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No quiero nada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03030"/>
                </a:solidFill>
                <a:latin typeface="Times New Roman"/>
              </a:rPr>
              <a:t>I don’t want anything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But, if a negative word, such as nunca or nadie, comes before the verb, a second negative is not needed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 Nadie quiere postre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4" marL="1371600" indent="-228600">
              <a:lnSpc>
                <a:spcPct val="90000"/>
              </a:lnSpc>
              <a:spcBef>
                <a:spcPts val="451"/>
              </a:spcBef>
              <a:buClr>
                <a:srgbClr val="ad010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03030"/>
                </a:solidFill>
                <a:latin typeface="Times New Roman"/>
              </a:rPr>
              <a:t>No one wants dessert.</a:t>
            </a:r>
            <a:endParaRPr b="0" lang="en-US" sz="18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3" dur="20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62120" y="45716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62626"/>
                </a:solidFill>
                <a:latin typeface="Impact"/>
              </a:rPr>
              <a:t>Remember this?</a:t>
            </a:r>
            <a:endParaRPr b="0" lang="en-US" sz="5400" spc="-1" strike="noStrike">
              <a:solidFill>
                <a:srgbClr val="262626"/>
              </a:solidFill>
              <a:latin typeface="Impact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761760" y="685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When alguno(a) and ninguno(a) must match the gender of the noun they replace or modify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 and ninguno have different forms when used before masculine singular nouns.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Alguno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algún         Ninguno </a:t>
            </a:r>
            <a:r>
              <a:rPr b="0" lang="en-US" sz="2400" spc="-1" strike="noStrike">
                <a:solidFill>
                  <a:srgbClr val="30303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 ningún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0303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  <a:p>
            <a:pPr lvl="2" marL="868320" indent="-228600">
              <a:spcBef>
                <a:spcPts val="499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03030"/>
                </a:solidFill>
                <a:latin typeface="Times New Roman"/>
              </a:rPr>
              <a:t>Las chicas quieren algún postre, pero Carlos no quiere ningún postre.</a:t>
            </a:r>
            <a:endParaRPr b="0" lang="en-US" sz="2000" spc="-1" strike="noStrike">
              <a:solidFill>
                <a:srgbClr val="30303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ad01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0303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0:45:41Z</dcterms:created>
  <dc:creator>Prine, Stephanie</dc:creator>
  <dc:description/>
  <dc:language>en-US</dc:language>
  <cp:lastModifiedBy>Prine, Stephanie</cp:lastModifiedBy>
  <dcterms:modified xsi:type="dcterms:W3CDTF">2013-09-18T14:10:46Z</dcterms:modified>
  <cp:revision>20</cp:revision>
  <dc:subject/>
  <dc:title>Palabras afirmativas y Negativas</dc:title>
</cp:coreProperties>
</file>